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AE70-067E-44D7-90A8-0D7144D1B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1177-EE4B-43B2-9893-A65DAB23B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5116-D3BD-4FA4-B9D8-668CAB1B9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7ACA-32A7-4209-8E98-5CE5C3E3F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49AD-57FF-4AA1-9D9B-468F32B9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96C5-F611-4C9A-BF43-6C58A6E50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CF98-FE3D-4578-9161-7FA65CBDF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18BF-1322-4807-AA75-9978FE039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1E92-8A82-4D2E-AF82-8EE2F601D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A882-A50B-45B1-98A5-138DE5EAE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FB41-4853-44C8-AB5A-C5A0BB1E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9AB-BEB5-4EFE-A34F-CA8FB8D9B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FAB5-046D-4822-A634-C9B057C8B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3B0C-27BB-4275-A8CD-3E66720BA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49E1-5DF1-4A42-BFB7-A3693857F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71A1-BF0D-4C76-855E-425257103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BDEC-E402-4F68-9343-46E36AC63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0B58-AC6D-4006-99C0-F324E5535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DC52-2C5D-4FA0-A094-96D570CD0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EC66-5B6A-4D4B-B3F2-B1FD9078C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76EA-0DB6-4443-818D-CB461F967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527F-4144-4139-95B5-57FE9E00B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F236-915F-43FC-981D-771399AAA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9A76-B537-485C-9FBB-82F777B77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5CAE-7E5D-4FFE-A6CA-853D135FB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0DA0-E64A-4B48-9844-B50C729B7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9BDE-CC41-4068-AB4B-D098C1BE6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DDE-1A98-4909-B6A4-2E37313D7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FB13-DEBB-43D7-805C-BFB387528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7C0D-1C68-4B4C-B492-18E166C65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15AB-2690-4CBD-A317-FA94DC4A7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FAFC-D260-4AC9-9D04-24DD8A811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7A0C-D3D0-4030-B863-D9D69E614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6B08-6058-4BD3-ABB4-806A19428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5EE7-2BF6-4D95-94DE-90C55B1D3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9678-88EF-4F30-9EF6-3914EA1B2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14BB-8F4B-452F-95E8-96A2F457C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5A8E-40A1-4347-B7AA-5A2A819D1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CEFC-67FB-4679-9E04-CD07A955B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2959-CB44-4644-A900-5A0CD48EC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EC0E-D1F7-4D14-AD35-8CD529D8E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647E-589F-4F78-AB51-6176F5358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1BE1-F814-4C81-A593-748521EBA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95C0-A3D7-48F2-BF4D-AD4318329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ECD7-0FA3-49E4-9572-C35AED1A0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90E7-0201-4E90-8B29-5FABAF969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67E5-90FD-4105-9050-2D843C653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9088-16D8-4B3E-84BE-1822C770F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71FB-0C05-4073-862A-B262B79A6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8735-4762-493D-AD44-DED3F74B1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0B62-C6E4-410C-838C-7E342E855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E15A-C8BC-4982-97E5-5A93D3BDB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CAD-C0B0-41F6-BBC4-A85BEB73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9F7-A41F-4F15-9207-0520555B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8C82F-848A-4525-AC5F-B2DC1834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872D7-FFA1-449C-A6BD-1F26994F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1D9BB-F394-4BC0-A14D-D4847818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F79DB-8590-490C-A0B0-B7707BE3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08871-33BE-43EA-B1EA-393498D6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C810A-BAA2-4058-9716-738FB11F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E15ED-D250-4B87-90D5-223D15CA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859F8-8ABE-4FDF-A283-F2A3DC3D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E56F1-6D60-4C9A-8D51-15C6B72B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9A688-F897-4E38-B6C1-9D049EC1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C4C-3AD7-4FA1-A25C-FEE2FC51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58E37-2B87-47BA-B11B-BE76EADF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13BD1-B976-432A-8D6F-49317E7C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55181-1014-407E-B4F6-94C14905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4A73E-782E-4AF0-A478-015635A8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C29C0-023A-4747-95ED-09336C57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BC86F-6FCB-4B7C-BA8E-1BC87AF4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B53F8-A86B-4829-B078-9E47C8B5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290DD-1E42-49BF-A287-47689275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4868E-760F-4718-8EBD-3C65FFEE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B6A19-EC90-4AC8-9A58-B4CAEDC0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FDB-49B8-48BA-BB70-6284B4CB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A6D30-480B-477D-A5C9-607E9CE5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F56C2-D9BD-46C9-97FD-1E5BC917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07B1D-58F3-44D4-B697-F1CF5B0C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5DF62-F6F9-4030-8603-48B56125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ABBDA-4A7C-468D-82BC-DDE31E00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9F63D-A5C1-4BF5-AD0C-19FBA975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5B67F-BC24-46FD-93FA-6565336B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684A9-523C-4866-B769-0C4309B8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68409-5FB7-4A71-A8ED-8DAEC66D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4A09D-1057-41EE-919E-2D148BEF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35D8-87F3-46B9-BD84-97934BF6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47B70-434B-4CB1-A094-CA5C8E2C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BAD62-FD25-40CF-9282-EF1DEB1F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759C2-5F2C-4A6F-950C-F9CB13D4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83D0A-8A68-4FE7-AA11-A9607ABB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53F28-C01A-4F92-B98B-0B2A6DAA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98991-1199-4D3C-A7B6-7C6EFAEF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368BE-DFD6-453F-880A-A77E33D7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613C9-C958-4623-BF81-750BE529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35873-298F-4275-96BE-02C11438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C6C8E-4C04-4C20-B4C4-82F8E2E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5A48-EF80-4E88-B439-DFFC5956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80EB1-80FD-4815-82C2-EA294C94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4B39F-09E7-4332-9864-1CF72AA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4A674-BA14-4984-8B1B-31F34571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10BA0-629E-491F-AB2C-386A7DC6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44D10-E2F4-4D9D-9134-157DB8C5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DBFC-846B-45B7-BC9A-6D5F7795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6AB1-8F18-4CC6-BE16-09FC2E31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2F6-F0F7-452D-AD7A-ADA77216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EF20-5FC3-45DE-A675-50E52234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F74E-0A42-441D-933F-43B7DC5F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FC6-3DAA-487A-AAE6-7D3E1C7C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2930-FDAA-4B83-B5AB-79000F41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A5D9-C157-467B-A855-D277AB0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B93A-3A56-40D3-B497-AB25896A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C9DC-2AAE-4CC1-893D-43086E15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3C18-44EC-4CA0-B8B2-32A97FF5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F96E8-B481-4F78-82F4-5F4EE162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EBAD-71B8-418A-8A41-A8693868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DB86-484A-4C20-9AC6-7ACCBD2B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D06E-76D7-4A9A-86DC-02B3917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B3E3-A946-49DE-B0A5-8361941D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7F2-7B5F-4D36-AEC3-C607BAB3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B7D7-5AC2-4913-9454-2BEA4887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C3A8-56F1-4542-B15D-B8306F4D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9785-CA65-4922-A43F-594B0595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745F4-C9F6-4949-B0AB-065C551D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8641-27B8-4E75-B300-454F3127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0784-91E6-42C7-A95C-3BE39ADB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027F-42D4-468E-B9EF-5918FCDA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C37F-5035-4A8F-A490-C0575879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CB69B-C4D0-4817-A014-90A384CA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4AF0-5906-4040-93C9-58025103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B2D-F2E2-41AC-B751-8CED4ADF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D807-72B0-4650-9958-9643C6E6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24CC-1AB8-4B27-9C82-2DA84A5C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56A2-9909-49B9-B0D1-FA413110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4A78-5C34-4E50-9CE8-091B754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FE3D-9135-4537-83E9-5031B394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A2B6-BEA7-40F0-A3C3-006106B4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3FAA-E0E7-4584-85D0-C8E9A3D3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04B3B-6B9B-43D1-85E1-3A2E5196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CC52-B234-4C48-8ADB-39023593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8C890-8B85-441C-9183-45BB9123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442-2516-4F20-BBC2-939883B1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6F55C-1006-41BF-812A-0D6C75DB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B7527-1238-4629-89ED-B9E92677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3889B-A308-413A-9872-237B3366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7B4BD-F263-4B93-B13A-8A2A14FA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78EEA-2D0E-4906-96AB-8E55D3D2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13BCC-805B-4B20-B7B4-81BB684D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E99E2-541B-4A28-9AA2-BCCEE4A4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0DF72-F95A-455B-8EE0-7EAE168C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2948-B86C-45F4-94A9-A5950A0D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36083-32A6-4858-B7F3-33BF22BB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35C-4D8F-4C09-9C0F-82B0C5C3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B630-E291-4554-B1BD-2805088A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151E2-9A96-4E5E-AE67-A15D474C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C7FCF-4CE9-487B-A83D-86329C71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63991-B534-420A-A5B0-31723638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485F3-4923-4CD4-9636-BBC231CA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16D93-70B3-418E-A290-3D93E4B2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CCF5-0AD3-492C-A27A-7AD1F77A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ACCB7-76E2-4AB1-BA54-48E71607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6CEEE-BD91-4C6D-B446-BE1300BF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932C0-1C40-4A76-8F9F-9628AB96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56B-25AB-4441-9C83-13ED0205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FBFA8-2BC0-4141-892A-3FA2398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6FC57-4CF0-41E0-982B-D5B1E8AD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2FA67-2C8F-42BF-BB66-C86F7B77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154B3-A6EA-4C50-AA65-1C08FDAF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D0C20-747E-4EE6-9C2E-6CDC7004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4E53B-5F95-48CA-BAD1-D2AC388B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A1FE6-C6F8-44C2-AAB1-78E37E3E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F7B4-A1AD-49EF-A3F8-7502B13E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848B6-BF00-42BE-A124-F4D3CCF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5C582-4DFF-424B-A78F-35C9F823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B46-CC0B-481E-B9DA-B6DECBE7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ED8E4-0554-4E48-B17B-90FB64DA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D9C71-C75A-43BE-98C2-7B87D380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DE374-1D84-42AB-8720-4D5BACAD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6D173-5EB2-4D99-926B-BCC62D4B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AD8E5-1B96-4314-BE53-C075AAD1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B719B-520F-4FF4-A130-60782F02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989B1-177A-4FA6-A578-7AA44027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41887-F322-422D-8901-DC85BCBD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3E0C6-B334-40C5-8184-14B66F86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EAA68-B2B8-435C-A196-52213015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2AB-5B08-48D3-B364-56BED853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0EA26-9DF0-4EC4-8B06-5DCACFC8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1C7C8-1792-4322-878E-CBADD984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0E417-8FF1-437F-A9F0-F611AF41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3EDD7-7D90-472C-AEB1-52F4B3C3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C9C1F-0B48-44A2-A820-5DF26ACE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174A8-7738-48C6-BB25-B85FCE3A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83793-0CFF-44A1-B946-7F3E865C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EF6B0-5C2D-477B-968C-2F220DB7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72CC3-E171-4905-BDDE-00DE92F8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90992-A396-478B-AAA3-EC6864CA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B89D-42CA-466F-B641-B763F08F7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737F-7DB2-4541-8580-12799797E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BD5A-BB69-4DCC-82D2-FD6B85D81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479E-2653-4360-B413-2CBFFE81D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3AEE-7417-4BEF-A261-30E7C61E8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EF59-0645-4666-AF08-D13AFFCB3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0123-99E5-4CE8-8F70-C0C8A2A8D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8EF1-0FE0-47F5-BAAF-7250259D4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E831-558D-43B8-99F4-776CCD418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EC20-FD1A-45DC-B0D4-D97396E6D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C8E3-F792-4AF0-BDFB-3B9F64866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0759-E1FF-4ED7-84CD-36442A912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21932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2394" h="21600">
                <a:moveTo>
                  <a:pt x="0" y="0"/>
                </a:moveTo>
                <a:lnTo>
                  <a:pt x="32394" y="0"/>
                </a:lnTo>
                <a:lnTo>
                  <a:pt x="32394" y="21600"/>
                </a:lnTo>
                <a:lnTo>
                  <a:pt x="0" y="21600"/>
                </a:lnTo>
                <a:close/>
              </a:path>
              <a:path fill="lightenLess" w="32394" h="21600">
                <a:moveTo>
                  <a:pt x="0" y="0"/>
                </a:moveTo>
                <a:lnTo>
                  <a:pt x="32394" y="0"/>
                </a:lnTo>
                <a:lnTo>
                  <a:pt x="30994" y="1400"/>
                </a:lnTo>
                <a:lnTo>
                  <a:pt x="1400" y="1400"/>
                </a:lnTo>
                <a:close/>
              </a:path>
              <a:path fill="darken" w="32394" h="21600">
                <a:moveTo>
                  <a:pt x="32394" y="0"/>
                </a:moveTo>
                <a:lnTo>
                  <a:pt x="32394" y="21600"/>
                </a:lnTo>
                <a:lnTo>
                  <a:pt x="30994" y="20200"/>
                </a:lnTo>
                <a:lnTo>
                  <a:pt x="30994" y="1400"/>
                </a:lnTo>
                <a:close/>
              </a:path>
              <a:path fill="darkenLess" w="32394" h="21600">
                <a:moveTo>
                  <a:pt x="32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4" y="20200"/>
                </a:lnTo>
                <a:close/>
              </a:path>
              <a:path fill="lighten" w="32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a’s best 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Steve Ran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who came to visit Ponyboy &amp; Johnny at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D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t Ponyboy and Johnny were tired of 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bol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Ponyboy gets upset about cutting and bleaching his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it is what Greasers are prou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tuff, like Sod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upplies Johnny bought at the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bread, peroxide, cards, candy bars, cigarett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one with the W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a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s the boo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one with the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et of “Nothing Gold Can Sta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at is Robert Fr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that made Ponyboy, Johnny, and Dally her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saved the kids from the burning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hat Ponyboy new discovers about D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realizes Darry really does love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ny’s idea that surprises Ponyboy &amp; D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he is going to turn himself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nditions of Johnny at the end of the chapter – after his heroic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possible broken back &amp; bad bu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teacher who rode in the ambulance with Pony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erry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c who talked to Ponyboy at the Tasty Fre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Randy Add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apop spent most of his time in the hospital entertaining these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the repor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le at the Curtis house if you are the first aw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make break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onyboy said he wanted to do when the reporters asked what he would do right now if he could do any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ake a b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ian of the Curtis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night Ponyboy had his bad nightm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night of his mom &amp; dad’s fu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ny’s unsuspecting visitor (Johnny turned this person away from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Johnny’s m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 Dally requested from Two-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the black-handled switch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son Dally is just like, even though they f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Tim Shep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tem Two-Bit purchased from the drugstore when Johnny requests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one with the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o is D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lor of eyes Cherry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What is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d a horse named Mickey M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Soda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ed Johnny &amp; Ponyboy h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 Who is D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7:04:53Z</dcterms:created>
  <dc:creator>Algona Community High School</dc:creator>
  <dc:description/>
  <cp:keywords/>
  <dc:language>en-US</dc:language>
  <cp:lastModifiedBy>ACSD</cp:lastModifiedBy>
  <dcterms:modified xsi:type="dcterms:W3CDTF">2011-02-24T16:23:54Z</dcterms:modified>
  <cp:revision>57</cp:revision>
  <dc:subject/>
  <dc:title>No Slide Title</dc:title>
</cp:coreProperties>
</file>